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5.png" ContentType="image/png"/>
  <Override PartName="/ppt/media/image21.png" ContentType="image/png"/>
  <Override PartName="/ppt/media/image3.wmf" ContentType="image/x-wmf"/>
  <Override PartName="/ppt/media/image13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35E0-F340-4A3D-B876-6E5BDAEA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2B64-5BDA-494B-B3FF-0FE1C8C6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E184-576C-4837-B557-3359B40F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CE05-D134-4710-BF8F-114DA5D7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B944-6EE5-4B1F-94E1-7A1E7722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FDD9-F90F-4E6E-ADAC-F6E1AF49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4239-B3C3-46CF-BB62-C2D98401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BEE3-6CB4-4364-B0B9-4E6D9D46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B638-29F9-40C4-ADCE-FB65670A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60AB-1AE1-4437-B790-25ECCBA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9E82-92FF-40B7-BA0A-A4EB375E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21AC-996C-421E-88BB-115CF7EF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007A-D533-4D37-87A9-12CA558B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55E0-644A-4C46-806C-7884E00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1094-50CB-4376-B300-AB6254F9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BF6C-0C1F-4CB4-B9E9-2D8261D1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6B95-2AE8-4576-9ABC-D85C501F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A92D-A8CA-4F27-B2AF-E47E7E3C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90CE-1D92-4324-8471-1D546945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223A-7964-4C47-954B-4F77D03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5BDA-2000-437C-9F23-D99999BD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BAA1-4973-4F1F-99C2-166E7C92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01ED-AC33-4358-A4E8-909E707D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18F1-C36D-4D56-B32F-11BADD7E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F0B2-1E02-4FBE-8D86-7D40256F5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2A3A-29E8-4249-B179-CF6988D92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720" y="152280"/>
            <a:ext cx="5486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ravel Agency Start-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ad Feinste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na de Mar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ddharth Gup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ncy Sard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sz-Yan Doris S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438280"/>
            <a:ext cx="6400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rystal Ball Travels</a:t>
            </a:r>
            <a:br>
              <a:rPr sz="36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We know where you want to go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2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 95% certaint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228600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or Crystal Ball Mode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: # of packages /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distribution based on historical data: US data expressed per month. New York having 10%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r target is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. deviation &amp; Mean from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Revenue – Agent Costs –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43800" y="304920"/>
            <a:ext cx="1273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8858520" cy="4695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73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estin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10440" cy="3733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410080" y="45720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10280" y="685800"/>
            <a:ext cx="1722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5530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will be 250 packages to the 8 destinations together with 98% certai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952880" cy="348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s will be between $50K and $71.9K with a 90%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51800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will be above $50K with 90%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868400"/>
            <a:ext cx="4267440" cy="3235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1000" y="1892160"/>
            <a:ext cx="4567320" cy="321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610480" cy="255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-a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icate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Solver model with multiple 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provides more realistic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ults from Solver and Crystal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maximum revenues driven by profit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revenues driven by random de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estimates look favora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gotiate contractual agreements with airlines and hotel to maximize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multiple destination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xpansion to other US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he more profitable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#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effects of FX on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743200" y="15228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mon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801960" cy="3985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81560" cy="3809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idea: travel agency based in NYC to sell travel packages going to 8 different cities, with various accommod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: estimate  maximum revenues based on contractual agreements (use of Sol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step: based on maximized revenues calculate profits with randomized demand (use of crystal b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Euro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tatistics of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ish Statistical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5146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for Solver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774800"/>
            <a:ext cx="8871120" cy="485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31748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ability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contractual agre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Flights –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Accommodation (low) –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Accommodation (med) –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Accommodation (high) –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fixed costs, agen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 not always fully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and Assumptions /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from Accommo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) –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d) – 2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igh) –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Packages per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 Minimum of 3 packages per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28418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805040"/>
            <a:ext cx="891540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ly sensitiv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1963800"/>
            <a:ext cx="5715000" cy="45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292720" cy="533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1:29:39Z</dcterms:created>
  <dc:creator> Brad Feinstein</dc:creator>
  <dc:description/>
  <dc:language>en-US</dc:language>
  <cp:lastModifiedBy> Brad Feinstein</cp:lastModifiedBy>
  <dcterms:modified xsi:type="dcterms:W3CDTF">2007-12-03T06:44:04Z</dcterms:modified>
  <cp:revision>15</cp:revision>
  <dc:subject/>
  <dc:title>Slide 1</dc:title>
</cp:coreProperties>
</file>